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0529-689B-4144-B628-F27648D5C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A4544-C34D-4159-940C-634729FEC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082B-6F3E-4F81-9046-455F91957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F25DA-FCF6-4C3D-9CA7-9EB8FCFBAD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A153-138F-4253-906B-E51A87809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1403-5B9D-416F-A191-117942AC8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DFE2-BDE3-4274-8D11-B6E13AF24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2746-AF84-4B8A-B94D-06C010C25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005A-1014-4D3C-A175-667EE379B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4E3B-42C6-484E-8A69-6C6B9988B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9B9-7A1A-4355-90AC-8E48ABD1C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5A359-3CE6-4ADE-BBFA-D2F5D4B71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AE651-5E25-41DC-96B8-A3B0E36C218E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00720" y="333000"/>
            <a:ext cx="4465440" cy="400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1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ЕМА ПРОЕКТА</a:t>
            </a:r>
            <a:br>
              <a:rPr sz="3600"/>
            </a:br>
            <a:br>
              <a:rPr sz="3600"/>
            </a:b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его нужны закон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51280" y="4221000"/>
            <a:ext cx="482616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уководитель про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иридонова Светлана Александровна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итель истории и обществозна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боту выполнил      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иселев Руслан Ильсурови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15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: 7 «б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95280" y="-4932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448920" algn="just">
              <a:lnSpc>
                <a:spcPct val="150000"/>
              </a:lnSpc>
              <a:spcBef>
                <a:spcPts val="799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Проблема: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 Много подростков и даже  взрослых людей , не знают для чего нужны законы? Зачем их знать ? Почему важно соблюдать законы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448920" algn="just">
              <a:lnSpc>
                <a:spcPct val="150000"/>
              </a:lnSpc>
              <a:spcBef>
                <a:spcPts val="601"/>
              </a:spcBef>
              <a:spcAft>
                <a:spcPts val="10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Цель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Calibri"/>
              </a:rPr>
              <a:t> : сделать обоснованный вывод о необходимости знания  законов в  жизни подростков и их родителей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4"/>
          <p:cNvSpPr/>
          <p:nvPr/>
        </p:nvSpPr>
        <p:spPr>
          <a:xfrm>
            <a:off x="1476360" y="1096920"/>
            <a:ext cx="748836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дач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зучить доступную научную, научно-популярную литературу, статьи в прессе, Интернет - источники и дать им оценку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сделать обоснованный вывод по проблеме исследовани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ходя из поставленных задач, я использовал следующие 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нализ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449280" algn="just">
              <a:lnSpc>
                <a:spcPct val="150000"/>
              </a:lnSpc>
              <a:buClr>
                <a:srgbClr val="ffffff"/>
              </a:buClr>
              <a:buFont typeface="Arial"/>
              <a:buChar char="*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циологический опрос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-784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333000"/>
            <a:ext cx="822960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42192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ипотезой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его исследования является предположение о том, что, необходимость   знания  и соблюдения законов  со стороны большинства молодежи понимается и соблюда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ктическая ценность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ей работы заключается в том, что её можно исполь­зовать в качестве дополнительного материала на уроках обществознания, классных часах в 6-7 классах, для публикации в школьной газет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 algn="just">
              <a:lnSpc>
                <a:spcPct val="15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Актуальность исследования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условлена повышением активности моло­дежи, желанием ее участвовать в законотворчестве, а для этого  надо знать законы. Только так можно добиться построения законопослушного общества в нашей стра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421920">
              <a:lnSpc>
                <a:spcPct val="10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•"/>
              <a:tabLst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Calibri"/>
              </a:rPr>
              <a:t>Опрос  среди  6-7 классников  показал  , что они знают  значение  слова-закон и п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нимают для чего нужны законы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3" descr=""/>
          <p:cNvPicPr/>
          <p:nvPr/>
        </p:nvPicPr>
        <p:blipFill>
          <a:blip r:embed="rId1"/>
          <a:stretch/>
        </p:blipFill>
        <p:spPr>
          <a:xfrm>
            <a:off x="5292720" y="2060640"/>
            <a:ext cx="3465360" cy="374472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1476360" y="2060640"/>
            <a:ext cx="3527280" cy="37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следование  показало , что 6-7 классы в  моей школе имеют представление об основных законах, но только четверть опрошенных имеют представление о законах которые их защищают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2050920" y="2421000"/>
            <a:ext cx="3237120" cy="403236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3" descr=""/>
          <p:cNvPicPr/>
          <p:nvPr/>
        </p:nvPicPr>
        <p:blipFill>
          <a:blip r:embed="rId2"/>
          <a:stretch/>
        </p:blipFill>
        <p:spPr>
          <a:xfrm>
            <a:off x="5580000" y="2421000"/>
            <a:ext cx="3251160" cy="40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50000"/>
              </a:lnSpc>
              <a:spcAft>
                <a:spcPts val="10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 знание того или иного закона не освобождает человека от ответственности за преступление или нарушение прав человека, вот зачем нужно соблюдать законы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Calibri"/>
              </a:rPr>
              <a:t> Мое  исследование показало ,что большая  часть ребят придерживается  буквы закона  и не переступало  эту опасную черту. Они четко понимают , что  за этим последует.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5580000" y="2565360"/>
            <a:ext cx="3313080" cy="3672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1763640" y="2565360"/>
            <a:ext cx="346716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333000"/>
            <a:ext cx="8229600" cy="230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водя  опрос я узнал, что ребята  знают и понимают, что за нарушение закона  наказывают  детей тоже.  И самое  главное, наказание  детей  за  нарушение закона  большинство считает  справедливы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br>
              <a:rPr sz="1200"/>
            </a:b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1908000" y="3141720"/>
            <a:ext cx="3311640" cy="3527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tretch/>
        </p:blipFill>
        <p:spPr>
          <a:xfrm>
            <a:off x="5580000" y="3141720"/>
            <a:ext cx="331308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22160" y="1773000"/>
            <a:ext cx="77724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-ПЕРВЫХ  ЗАКОНЫ НУЖНЫ ДЛЯ ЗАКРЕПЛЕНИЯ ОПРЕДЕЛЕННЫХ ПРАВИЛ ПОВЕДЕНИЯ, КОТОРЫЕ НЕОБХОДИМО ПРОСТО ВЫУЧИТЬ И ПОСТОЯННО ОБРАЩАТЬСЯ К НИМ В ПОВСЕДНЕВНОЙ ЖИЗНИ.</a:t>
            </a:r>
            <a:r>
              <a:rPr b="1" lang="ru-RU" sz="20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Я ИМЕЮ В ВИДУ, НАПРИМЕР. ПРАВИЛА  ДОРОЖНОГО ДВИЖЕНИЯ. МАЛО БЫТЬ ПОРЯДОЧНЫМ И УМНЫМ ЧЕЛОВЕКОМ, НАДО БЫТЬ ЧЕЛОВЕКОМ ЗАКОНОПОСЛУШНЫМ;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-ВТОРЫХ: ЗАКОНЫ НЕОБХОДИМЫ, ЧТОБЫ ЗАЩИТИТЬ ПРАВА СЛАБЫХ ОТ БОЛЕЕ СИЛЬНЫХ.</a:t>
            </a:r>
            <a:br>
              <a:rPr sz="2000"/>
            </a:b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НАВЕРНОЕ , ВСЕ ТЕ МНОГОЧИСЛЕННЫЕ ЗАКОНЫ, КОТОРЫЕ ПРИНЯТЫ В РОССИИ И ЕЩЕ БУДУТ ПРИНЯТЫ БУДУТ ПОСТЕПЕННО МЕНЯТЬСЯ И КОРРЕКТИРОВАТЬСЯ С УЧЕТОМ  ВРЕМЕНИ И МЕСТА, НО ИЗУЧАТЬ ИХ НАМ ВСЕ-ТАКИ ПРИДЕТ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722160" y="765000"/>
            <a:ext cx="7772400" cy="719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92000"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так , к каким я  выводам  пришел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23T14:28:12Z</dcterms:created>
  <dc:creator>Mariajose</dc:creator>
  <dc:description/>
  <dc:language>en-US</dc:language>
  <cp:lastModifiedBy>Пользователь</cp:lastModifiedBy>
  <dcterms:modified xsi:type="dcterms:W3CDTF">2017-03-01T14:19:00Z</dcterms:modified>
  <cp:revision>631</cp:revision>
  <dc:subject/>
  <dc:title>Diapositiva 1</dc:title>
</cp:coreProperties>
</file>